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245-2AC0-431A-93B9-8488428C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4D4-E64F-4F3E-81F0-1428FA8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D35-103A-48B3-8462-FCF21162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0C8-2895-49E7-B118-1D5305ED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655-4C30-4ACA-B0A6-9AE6107A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B4D-732D-4AC5-B960-7F3A976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EBB-4F42-4E80-B5F9-05F79BCD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895-0BC2-4F9E-9901-26BAC899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D59-4A49-4989-8E37-4520606B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FE3-9FDC-4F55-82F6-311361B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309-90C4-4E72-B981-623FC2F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D01-D1CB-4F7E-A65A-E047FE3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90FC-799D-4C98-8555-4FEB33D2A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981160" y="2880360"/>
            <a:ext cx="29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8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抽样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八章 数据的收集与整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06640" y="3941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折线统计图与复合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"/>
          <p:cNvSpPr/>
          <p:nvPr/>
        </p:nvSpPr>
        <p:spPr>
          <a:xfrm>
            <a:off x="762120" y="793800"/>
            <a:ext cx="71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王用了两幅条形统计图比较两次普查各种受教育程度的情况，如下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表 11" descr=""/>
          <p:cNvPicPr/>
          <p:nvPr/>
        </p:nvPicPr>
        <p:blipFill>
          <a:blip r:embed="rId1"/>
          <a:stretch/>
        </p:blipFill>
        <p:spPr>
          <a:xfrm>
            <a:off x="357120" y="2549520"/>
            <a:ext cx="4179960" cy="2492280"/>
          </a:xfrm>
          <a:prstGeom prst="rect">
            <a:avLst/>
          </a:prstGeom>
          <a:ln w="0">
            <a:noFill/>
          </a:ln>
        </p:spPr>
      </p:pic>
      <p:pic>
        <p:nvPicPr>
          <p:cNvPr id="130" name="图表 13" descr=""/>
          <p:cNvPicPr/>
          <p:nvPr/>
        </p:nvPicPr>
        <p:blipFill>
          <a:blip r:embed="rId2"/>
          <a:stretch/>
        </p:blipFill>
        <p:spPr>
          <a:xfrm>
            <a:off x="4660920" y="2549520"/>
            <a:ext cx="41036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表 10" descr=""/>
          <p:cNvPicPr/>
          <p:nvPr/>
        </p:nvPicPr>
        <p:blipFill>
          <a:blip r:embed="rId1"/>
          <a:stretch/>
        </p:blipFill>
        <p:spPr>
          <a:xfrm>
            <a:off x="1841400" y="2003400"/>
            <a:ext cx="5200920" cy="28512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"/>
          <p:cNvSpPr/>
          <p:nvPr/>
        </p:nvSpPr>
        <p:spPr>
          <a:xfrm>
            <a:off x="685800" y="70632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李用了一幅条形统计图比较两次普查各种受教育程度的情况，如下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781200" y="510048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想一想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哪种方法效果好？它们之间有什么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25608"/>
          <p:cNvSpPr/>
          <p:nvPr/>
        </p:nvSpPr>
        <p:spPr>
          <a:xfrm>
            <a:off x="642960" y="114156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图是某校两个班的同学在一次体育课的活动项目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609" descr="★七年级上-12"/>
          <p:cNvPicPr/>
          <p:nvPr/>
        </p:nvPicPr>
        <p:blipFill>
          <a:blip r:embed="rId1"/>
          <a:stretch/>
        </p:blipFill>
        <p:spPr>
          <a:xfrm>
            <a:off x="1523880" y="2590920"/>
            <a:ext cx="6782040" cy="25286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6625"/>
          <p:cNvSpPr/>
          <p:nvPr/>
        </p:nvSpPr>
        <p:spPr>
          <a:xfrm>
            <a:off x="1130400" y="5497560"/>
            <a:ext cx="7119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哪个班踢足球的人数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？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哪个班打排球的人数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31"/>
          <p:cNvSpPr/>
          <p:nvPr/>
        </p:nvSpPr>
        <p:spPr>
          <a:xfrm>
            <a:off x="468360" y="620640"/>
            <a:ext cx="12430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2769"/>
          <p:cNvSpPr/>
          <p:nvPr/>
        </p:nvSpPr>
        <p:spPr>
          <a:xfrm>
            <a:off x="1295280" y="1550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学过了条形统计图、扇形统计图、折线统计图、复合统计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各有什么特点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1"/>
          <p:cNvSpPr/>
          <p:nvPr/>
        </p:nvSpPr>
        <p:spPr>
          <a:xfrm>
            <a:off x="1042920" y="982800"/>
            <a:ext cx="124308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6147"/>
          <p:cNvGrpSpPr/>
          <p:nvPr/>
        </p:nvGrpSpPr>
        <p:grpSpPr>
          <a:xfrm>
            <a:off x="325440" y="246240"/>
            <a:ext cx="5290200" cy="808560"/>
            <a:chOff x="325440" y="246240"/>
            <a:chExt cx="5290200" cy="808560"/>
          </a:xfrm>
        </p:grpSpPr>
        <p:sp>
          <p:nvSpPr>
            <p:cNvPr id="141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151"/>
            <p:cNvSpPr/>
            <p:nvPr/>
          </p:nvSpPr>
          <p:spPr>
            <a:xfrm>
              <a:off x="2021040" y="52020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统计图准确表示事物的某个特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100"/>
          <p:cNvSpPr/>
          <p:nvPr/>
        </p:nvSpPr>
        <p:spPr>
          <a:xfrm>
            <a:off x="1596960" y="1730520"/>
            <a:ext cx="61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、乙两种酒近几年的销售量和价格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58880" y="2786040"/>
          <a:ext cx="5816520" cy="1371600"/>
        </p:xfrm>
        <a:graphic>
          <a:graphicData uri="http://schemas.openxmlformats.org/drawingml/2006/table">
            <a:tbl>
              <a:tblPr/>
              <a:tblGrid>
                <a:gridCol w="2401920"/>
                <a:gridCol w="1146240"/>
                <a:gridCol w="1135080"/>
                <a:gridCol w="11332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度销售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万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该年度的单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文本框 5"/>
          <p:cNvSpPr/>
          <p:nvPr/>
        </p:nvSpPr>
        <p:spPr>
          <a:xfrm>
            <a:off x="2355840" y="227340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品牌酒的产量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14680" y="4921200"/>
          <a:ext cx="5816520" cy="1371600"/>
        </p:xfrm>
        <a:graphic>
          <a:graphicData uri="http://schemas.openxmlformats.org/drawingml/2006/table">
            <a:tbl>
              <a:tblPr/>
              <a:tblGrid>
                <a:gridCol w="2401920"/>
                <a:gridCol w="1146240"/>
                <a:gridCol w="1135080"/>
                <a:gridCol w="11332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度销售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万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该年度的单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文本框 7"/>
          <p:cNvSpPr/>
          <p:nvPr/>
        </p:nvSpPr>
        <p:spPr>
          <a:xfrm>
            <a:off x="2558880" y="445464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乙品牌酒的产量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31"/>
          <p:cNvSpPr/>
          <p:nvPr/>
        </p:nvSpPr>
        <p:spPr>
          <a:xfrm>
            <a:off x="539640" y="11635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457880" y="1704960"/>
            <a:ext cx="4028760" cy="306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712800" y="1847880"/>
            <a:ext cx="377352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00"/>
          <p:cNvSpPr/>
          <p:nvPr/>
        </p:nvSpPr>
        <p:spPr>
          <a:xfrm>
            <a:off x="825480" y="475776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哪一种酒的价格增长较快？为什么？这与上面画出的折线统计图给你的感觉一致吗？为什么图象会给人这样的感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1019160" y="515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人根据上面的统计表，制作出甲、乙两种酒的价格变化的折线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57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100"/>
          <p:cNvSpPr/>
          <p:nvPr/>
        </p:nvSpPr>
        <p:spPr>
          <a:xfrm>
            <a:off x="817560" y="584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种酒的销售人员将甲种酒的销售信息制作成了如下的条形统计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也在右面的图中作出甲种酒的年度销售量的条形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4691160" y="2433600"/>
            <a:ext cx="3697200" cy="333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696960" y="2405160"/>
            <a:ext cx="3921120" cy="356076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5508720" y="4137120"/>
            <a:ext cx="398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6359400" y="3878280"/>
            <a:ext cx="412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7224840" y="3659040"/>
            <a:ext cx="398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00"/>
          <p:cNvSpPr/>
          <p:nvPr/>
        </p:nvSpPr>
        <p:spPr>
          <a:xfrm>
            <a:off x="996840" y="853920"/>
            <a:ext cx="74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幅条形统计图给你的感觉一样吗？ 在甲种酒销售人员画的条形统计图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甲种酒的年度销售量看上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的多少倍？实际上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100"/>
          <p:cNvSpPr/>
          <p:nvPr/>
        </p:nvSpPr>
        <p:spPr>
          <a:xfrm>
            <a:off x="944640" y="1133640"/>
            <a:ext cx="70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了较直观地比较某两个统计量的变化速度，绘制折线统计图应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了较直观地反映几个统计量之间的比例关系绘制条形统计图时，应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"/>
          <p:cNvSpPr/>
          <p:nvPr/>
        </p:nvSpPr>
        <p:spPr>
          <a:xfrm>
            <a:off x="950760" y="5261040"/>
            <a:ext cx="74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绘制条形统计图时，纵坐标上的起始值应从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始，从而避免造成“误导”、引起“错觉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996840" y="373212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969840" y="413712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绘制两幅折线统计图，在比较两个统计量的变化趋势时，应注意横（纵）坐标的一致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647640" y="698400"/>
            <a:ext cx="139536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582480"/>
            <a:ext cx="58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一位病人的体温记录折线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95240" y="132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图回答下面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58800" y="1860480"/>
            <a:ext cx="427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护士每隔几小时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人量一次体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8920" y="3537000"/>
            <a:ext cx="65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这位病人的体温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是多少摄氏度？最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少摄氏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30200" y="569736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他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的体温是多少摄氏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4038480" y="1752480"/>
            <a:ext cx="4863960" cy="2558520"/>
            <a:chOff x="4038480" y="1752480"/>
            <a:chExt cx="4863960" cy="2558520"/>
          </a:xfrm>
        </p:grpSpPr>
        <p:grpSp>
          <p:nvGrpSpPr>
            <p:cNvPr id="178" name="Group 11"/>
            <p:cNvGrpSpPr/>
            <p:nvPr/>
          </p:nvGrpSpPr>
          <p:grpSpPr>
            <a:xfrm>
              <a:off x="4038480" y="1752480"/>
              <a:ext cx="4863960" cy="2210760"/>
              <a:chOff x="4038480" y="1752480"/>
              <a:chExt cx="4863960" cy="2210760"/>
            </a:xfrm>
          </p:grpSpPr>
          <p:pic>
            <p:nvPicPr>
              <p:cNvPr id="179" name="Picture 12" descr=""/>
              <p:cNvPicPr/>
              <p:nvPr/>
            </p:nvPicPr>
            <p:blipFill>
              <a:blip r:embed="rId1"/>
              <a:srcRect l="1311" t="12842" r="11848" b="7554"/>
              <a:stretch/>
            </p:blipFill>
            <p:spPr>
              <a:xfrm>
                <a:off x="4038480" y="1752480"/>
                <a:ext cx="4863960" cy="221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Line 13"/>
              <p:cNvSpPr/>
              <p:nvPr/>
            </p:nvSpPr>
            <p:spPr>
              <a:xfrm>
                <a:off x="4426920" y="3175200"/>
                <a:ext cx="418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14"/>
            <p:cNvSpPr/>
            <p:nvPr/>
          </p:nvSpPr>
          <p:spPr>
            <a:xfrm>
              <a:off x="412848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583956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7551360" y="3973680"/>
              <a:ext cx="10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16403"/>
          <p:cNvSpPr/>
          <p:nvPr/>
        </p:nvSpPr>
        <p:spPr>
          <a:xfrm>
            <a:off x="1380240" y="2998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6404"/>
          <p:cNvSpPr/>
          <p:nvPr/>
        </p:nvSpPr>
        <p:spPr>
          <a:xfrm>
            <a:off x="1147680" y="5168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9.5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405"/>
          <p:cNvSpPr/>
          <p:nvPr/>
        </p:nvSpPr>
        <p:spPr>
          <a:xfrm>
            <a:off x="7134120" y="56973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7.5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406"/>
          <p:cNvSpPr/>
          <p:nvPr/>
        </p:nvSpPr>
        <p:spPr>
          <a:xfrm>
            <a:off x="2792160" y="5168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6.8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20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折线统计图、复合统计图的特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选用适当的统计图表示数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00"/>
          <p:cNvSpPr/>
          <p:nvPr/>
        </p:nvSpPr>
        <p:spPr>
          <a:xfrm>
            <a:off x="990720" y="696960"/>
            <a:ext cx="69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七年级七个班开展“学雷锋做好人好事”活动，为了清楚表明三月份各班做好人好事的件数是多少，最好选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折线统计图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扇形统计图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都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"/>
          <p:cNvSpPr/>
          <p:nvPr/>
        </p:nvSpPr>
        <p:spPr>
          <a:xfrm>
            <a:off x="992160" y="376236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某地要反映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降水量的变化情况，应绘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条形统计图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扇形统计图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以上都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"/>
          <p:cNvSpPr/>
          <p:nvPr/>
        </p:nvSpPr>
        <p:spPr>
          <a:xfrm>
            <a:off x="349200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2221920" y="4451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00"/>
          <p:cNvSpPr/>
          <p:nvPr/>
        </p:nvSpPr>
        <p:spPr>
          <a:xfrm>
            <a:off x="636480" y="6015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所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期间甲、乙两个公司产品销售情况统计图．由统计图可知，销量增速较快的公司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-2147482612" descr="G:\教案转word\数学\7\北师数学七上学练考\SBS80.EPS"/>
          <p:cNvPicPr/>
          <p:nvPr/>
        </p:nvPicPr>
        <p:blipFill>
          <a:blip r:embed="rId1"/>
          <a:stretch/>
        </p:blipFill>
        <p:spPr>
          <a:xfrm>
            <a:off x="1914480" y="2579760"/>
            <a:ext cx="5553000" cy="25383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1112760" y="522144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公司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样快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无法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"/>
          <p:cNvSpPr/>
          <p:nvPr/>
        </p:nvSpPr>
        <p:spPr>
          <a:xfrm>
            <a:off x="1537920" y="18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09480" y="60948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对某班男女同学的数学成绩进行了统计，试用复合条形统计图绘制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202440" y="4313160"/>
            <a:ext cx="16984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00720" y="4313160"/>
            <a:ext cx="1701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803680" y="4313160"/>
            <a:ext cx="16970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00160" y="4313160"/>
            <a:ext cx="1703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202440" y="3575160"/>
            <a:ext cx="16984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500720" y="3575160"/>
            <a:ext cx="1701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803680" y="3575160"/>
            <a:ext cx="16970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100160" y="3575160"/>
            <a:ext cx="17035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202440" y="2854440"/>
            <a:ext cx="169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00720" y="2854440"/>
            <a:ext cx="170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2803680" y="2854440"/>
            <a:ext cx="1697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1100160" y="2854440"/>
            <a:ext cx="1703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116000" y="2854440"/>
            <a:ext cx="170352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1100160" y="3575160"/>
            <a:ext cx="680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1100160" y="4313160"/>
            <a:ext cx="680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1100160" y="4965840"/>
            <a:ext cx="6800760" cy="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1100160" y="2854440"/>
            <a:ext cx="0" cy="211140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280368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450072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6202440" y="285444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7900920" y="2854440"/>
            <a:ext cx="0" cy="211140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>
            <a:off x="2803680" y="2854440"/>
            <a:ext cx="5097240" cy="0"/>
          </a:xfrm>
          <a:prstGeom prst="line">
            <a:avLst/>
          </a:prstGeom>
          <a:ln cap="sq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1116000" y="2854440"/>
            <a:ext cx="1703520" cy="449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116000" y="2927520"/>
            <a:ext cx="890640" cy="636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208520" y="314316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性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921320" y="307512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2226240" y="277020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442880" y="2468520"/>
            <a:ext cx="20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折线统计图与复合统计图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"/>
          <p:cNvGrpSpPr/>
          <p:nvPr/>
        </p:nvGrpSpPr>
        <p:grpSpPr>
          <a:xfrm>
            <a:off x="3432240" y="855720"/>
            <a:ext cx="2907720" cy="4503600"/>
            <a:chOff x="3432240" y="855720"/>
            <a:chExt cx="2907720" cy="4503600"/>
          </a:xfrm>
        </p:grpSpPr>
        <p:grpSp>
          <p:nvGrpSpPr>
            <p:cNvPr id="227" name="组合 16"/>
            <p:cNvGrpSpPr/>
            <p:nvPr/>
          </p:nvGrpSpPr>
          <p:grpSpPr>
            <a:xfrm>
              <a:off x="3432240" y="855720"/>
              <a:ext cx="2907720" cy="4503600"/>
              <a:chOff x="3432240" y="855720"/>
              <a:chExt cx="2907720" cy="4503600"/>
            </a:xfrm>
          </p:grpSpPr>
          <p:sp>
            <p:nvSpPr>
              <p:cNvPr id="228" name="Text Box 4"/>
              <p:cNvSpPr/>
              <p:nvPr/>
            </p:nvSpPr>
            <p:spPr>
              <a:xfrm>
                <a:off x="3694320" y="1280160"/>
                <a:ext cx="264564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折线统计图的特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432240" y="855720"/>
                <a:ext cx="631800" cy="450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Text Box 4"/>
            <p:cNvSpPr/>
            <p:nvPr/>
          </p:nvSpPr>
          <p:spPr>
            <a:xfrm>
              <a:off x="3694320" y="2258640"/>
              <a:ext cx="26452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合统计图的特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2"/>
          <p:cNvGrpSpPr/>
          <p:nvPr/>
        </p:nvGrpSpPr>
        <p:grpSpPr>
          <a:xfrm>
            <a:off x="3692520" y="3195720"/>
            <a:ext cx="2660760" cy="1488240"/>
            <a:chOff x="3692520" y="3195720"/>
            <a:chExt cx="2660760" cy="1488240"/>
          </a:xfrm>
        </p:grpSpPr>
        <p:sp>
          <p:nvSpPr>
            <p:cNvPr id="232" name="Text Box 4"/>
            <p:cNvSpPr/>
            <p:nvPr/>
          </p:nvSpPr>
          <p:spPr>
            <a:xfrm>
              <a:off x="3692520" y="3195720"/>
              <a:ext cx="20588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统计图的选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"/>
            <p:cNvSpPr/>
            <p:nvPr/>
          </p:nvSpPr>
          <p:spPr>
            <a:xfrm>
              <a:off x="3692520" y="4224240"/>
              <a:ext cx="266076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统计图引起的错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539640" y="517680"/>
            <a:ext cx="1527120" cy="51408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境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1073160" y="1031760"/>
            <a:ext cx="6900840" cy="44769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99"/>
          <p:cNvSpPr/>
          <p:nvPr/>
        </p:nvSpPr>
        <p:spPr>
          <a:xfrm>
            <a:off x="1000080" y="5308560"/>
            <a:ext cx="75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是某年某家报纸公布的反应人口情况的数据．看一看这份报纸给我们提供了哪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折线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圆角矩形 31"/>
          <p:cNvSpPr/>
          <p:nvPr/>
        </p:nvSpPr>
        <p:spPr>
          <a:xfrm>
            <a:off x="539640" y="11635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266"/>
          <p:cNvSpPr/>
          <p:nvPr/>
        </p:nvSpPr>
        <p:spPr>
          <a:xfrm>
            <a:off x="1973880" y="19461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世界人口变化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1267" descr="★七年级上-12"/>
          <p:cNvPicPr/>
          <p:nvPr/>
        </p:nvPicPr>
        <p:blipFill>
          <a:blip r:embed="rId1"/>
          <a:stretch/>
        </p:blipFill>
        <p:spPr>
          <a:xfrm>
            <a:off x="689040" y="2709720"/>
            <a:ext cx="4707000" cy="2768760"/>
          </a:xfrm>
          <a:prstGeom prst="rect">
            <a:avLst/>
          </a:prstGeom>
          <a:ln w="0">
            <a:noFill/>
          </a:ln>
        </p:spPr>
      </p:pic>
      <p:sp>
        <p:nvSpPr>
          <p:cNvPr id="91" name="矩形 11270"/>
          <p:cNvSpPr/>
          <p:nvPr/>
        </p:nvSpPr>
        <p:spPr>
          <a:xfrm>
            <a:off x="5396040" y="2771640"/>
            <a:ext cx="362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世界人口逐年增长，直线上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年开始的未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年，世界人口预计增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亿，达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1268" descr="★七年级上-12"/>
          <p:cNvPicPr/>
          <p:nvPr/>
        </p:nvPicPr>
        <p:blipFill>
          <a:blip r:embed="rId1"/>
          <a:stretch/>
        </p:blipFill>
        <p:spPr>
          <a:xfrm>
            <a:off x="833400" y="2149560"/>
            <a:ext cx="5031000" cy="3251160"/>
          </a:xfrm>
          <a:prstGeom prst="rect">
            <a:avLst/>
          </a:prstGeom>
          <a:ln w="0">
            <a:noFill/>
          </a:ln>
        </p:spPr>
      </p:pic>
      <p:sp>
        <p:nvSpPr>
          <p:cNvPr id="93" name="矩形 11269"/>
          <p:cNvSpPr/>
          <p:nvPr/>
        </p:nvSpPr>
        <p:spPr>
          <a:xfrm>
            <a:off x="1622520" y="1442880"/>
            <a:ext cx="34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我国几个城市年降水量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271"/>
          <p:cNvSpPr/>
          <p:nvPr/>
        </p:nvSpPr>
        <p:spPr>
          <a:xfrm>
            <a:off x="6121440" y="2535120"/>
            <a:ext cx="24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几个城市的年降水量由南往北逐渐减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96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12289"/>
          <p:cNvSpPr/>
          <p:nvPr/>
        </p:nvSpPr>
        <p:spPr>
          <a:xfrm>
            <a:off x="1660680" y="1003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Arial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折线统计图有什么特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1054080" y="1857240"/>
            <a:ext cx="64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折线统计图反映数据随时间、地域或其他因素而变化的情况或趋势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-2147482615" descr="G:\教案转word\数学\7\湘教数学七上新教案(三校)\L74.eps"/>
          <p:cNvPicPr/>
          <p:nvPr/>
        </p:nvPicPr>
        <p:blipFill>
          <a:blip r:embed="rId1"/>
          <a:stretch/>
        </p:blipFill>
        <p:spPr>
          <a:xfrm>
            <a:off x="2631960" y="3538440"/>
            <a:ext cx="4249800" cy="28879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99"/>
          <p:cNvSpPr/>
          <p:nvPr/>
        </p:nvSpPr>
        <p:spPr>
          <a:xfrm>
            <a:off x="492120" y="1181160"/>
            <a:ext cx="79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我国工业生产总值年增长率的变化情况如图所示，下列结论中不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工业生产总值的年增长率逐年减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工业生产总值的年增长率开始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中，每年的工业生产总值不断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中，每年的工业生产总值年增长率有增有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992200" y="155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492120" y="6127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99"/>
          <p:cNvSpPr/>
          <p:nvPr/>
        </p:nvSpPr>
        <p:spPr>
          <a:xfrm>
            <a:off x="712800" y="13129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是某手机店今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份音乐手机的销售额统计图，根据图中信息，可以判断相邻两个月音乐手机销售额变化最大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809640" y="323856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-2147482610" descr="G:\教案转word\数学\7\湘教数学七上新教案(三校)\7Q68.EPS"/>
          <p:cNvPicPr/>
          <p:nvPr/>
        </p:nvPicPr>
        <p:blipFill>
          <a:blip r:embed="rId1"/>
          <a:stretch/>
        </p:blipFill>
        <p:spPr>
          <a:xfrm>
            <a:off x="5832360" y="2716200"/>
            <a:ext cx="2279880" cy="17827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5"/>
          <p:cNvSpPr/>
          <p:nvPr/>
        </p:nvSpPr>
        <p:spPr>
          <a:xfrm>
            <a:off x="3467160" y="25588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1"/>
          <p:cNvSpPr/>
          <p:nvPr/>
        </p:nvSpPr>
        <p:spPr>
          <a:xfrm>
            <a:off x="492120" y="612720"/>
            <a:ext cx="132084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6147"/>
          <p:cNvGrpSpPr/>
          <p:nvPr/>
        </p:nvGrpSpPr>
        <p:grpSpPr>
          <a:xfrm>
            <a:off x="325440" y="246240"/>
            <a:ext cx="2233440" cy="808200"/>
            <a:chOff x="325440" y="246240"/>
            <a:chExt cx="2233440" cy="808200"/>
          </a:xfrm>
        </p:grpSpPr>
        <p:sp>
          <p:nvSpPr>
            <p:cNvPr id="110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151"/>
            <p:cNvSpPr/>
            <p:nvPr/>
          </p:nvSpPr>
          <p:spPr>
            <a:xfrm>
              <a:off x="123912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复合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1"/>
          <p:cNvSpPr/>
          <p:nvPr/>
        </p:nvSpPr>
        <p:spPr>
          <a:xfrm>
            <a:off x="677880" y="1803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9999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两次人口普查中，都对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进行了统计，结果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1552680" y="31528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7240" y="3911760"/>
          <a:ext cx="7093080" cy="2012760"/>
        </p:xfrm>
        <a:graphic>
          <a:graphicData uri="http://schemas.openxmlformats.org/drawingml/2006/table">
            <a:tbl>
              <a:tblPr/>
              <a:tblGrid>
                <a:gridCol w="1636560"/>
                <a:gridCol w="1148040"/>
                <a:gridCol w="1039680"/>
                <a:gridCol w="1147680"/>
                <a:gridCol w="1071720"/>
                <a:gridCol w="1049400"/>
              </a:tblGrid>
              <a:tr h="84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初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2673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第五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98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第六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7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  <p:grpSp>
        <p:nvGrpSpPr>
          <p:cNvPr id="118" name="组合 8"/>
          <p:cNvGrpSpPr/>
          <p:nvPr/>
        </p:nvGrpSpPr>
        <p:grpSpPr>
          <a:xfrm>
            <a:off x="693360" y="3930120"/>
            <a:ext cx="1655640" cy="785880"/>
            <a:chOff x="693360" y="3930120"/>
            <a:chExt cx="1655640" cy="785880"/>
          </a:xfrm>
        </p:grpSpPr>
        <p:sp>
          <p:nvSpPr>
            <p:cNvPr id="119" name="直接连接符 6"/>
            <p:cNvSpPr/>
            <p:nvPr/>
          </p:nvSpPr>
          <p:spPr>
            <a:xfrm flipH="1" flipV="1">
              <a:off x="1043280" y="3930120"/>
              <a:ext cx="1283040" cy="785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7"/>
            <p:cNvSpPr/>
            <p:nvPr/>
          </p:nvSpPr>
          <p:spPr>
            <a:xfrm flipH="1" flipV="1">
              <a:off x="693360" y="4270320"/>
              <a:ext cx="1655640" cy="43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677880" y="3875040"/>
            <a:ext cx="1671120" cy="958320"/>
            <a:chOff x="677880" y="3875040"/>
            <a:chExt cx="1671120" cy="958320"/>
          </a:xfrm>
        </p:grpSpPr>
        <p:sp>
          <p:nvSpPr>
            <p:cNvPr id="122" name="文本框 9"/>
            <p:cNvSpPr/>
            <p:nvPr/>
          </p:nvSpPr>
          <p:spPr>
            <a:xfrm>
              <a:off x="677880" y="3931560"/>
              <a:ext cx="36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2"/>
            <p:cNvSpPr/>
            <p:nvPr/>
          </p:nvSpPr>
          <p:spPr>
            <a:xfrm>
              <a:off x="1105560" y="4070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13"/>
            <p:cNvSpPr/>
            <p:nvPr/>
          </p:nvSpPr>
          <p:spPr>
            <a:xfrm>
              <a:off x="677880" y="4434480"/>
              <a:ext cx="79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普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14"/>
            <p:cNvSpPr/>
            <p:nvPr/>
          </p:nvSpPr>
          <p:spPr>
            <a:xfrm>
              <a:off x="1341720" y="3875040"/>
              <a:ext cx="10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受教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15"/>
          <p:cNvSpPr/>
          <p:nvPr/>
        </p:nvSpPr>
        <p:spPr>
          <a:xfrm>
            <a:off x="1801800" y="414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1"/>
          <p:cNvSpPr/>
          <p:nvPr/>
        </p:nvSpPr>
        <p:spPr>
          <a:xfrm>
            <a:off x="492120" y="1187280"/>
            <a:ext cx="183348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与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16:28Z</dcterms:created>
  <dc:creator> </dc:creator>
  <dc:description> </dc:description>
  <dc:language>en-US</dc:language>
  <cp:lastModifiedBy>Administrator</cp:lastModifiedBy>
  <dcterms:modified xsi:type="dcterms:W3CDTF">2018-12-29T01:16:5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